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E492C6A-0FD8-4F69-97C8-6831A05427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B528ECA-1A2B-4293-8F73-424349C13B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7B6368C-FCA1-4930-9390-0BDC3C1907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9EE3394-B554-49D4-8087-712C03A481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D3E8515-4464-4A81-B1E0-9E8B1C12C1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47CB5F4-81AC-4021-AABC-C2F71A4830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33C5D54-6BF1-4659-886D-DEC1109EE6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BD6B4FE-6875-47CF-9C80-141BCFD433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2B82415-02DF-470C-A94D-6A3C8513A8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3DBF636-2A83-4BBC-8C03-9ADD4928FE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59968A8-C34C-419A-8C96-9E3426AE60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D7E-2983-439C-8782-84D2E1D8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912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4C0-99D9-4C45-A4B5-BA67CE7F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91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91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124-5AF4-4B7D-959C-87BC1401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912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912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912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A88-4608-4B49-B42A-FE7D8FC8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9C1-33F7-42DF-83D8-DD7CA43D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306-1C38-44B6-A9E9-F34D2404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5B6-A5AE-4095-9930-C099B719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DC1-5F21-4E14-898F-C76938DB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F36-44C6-47AD-ADC7-616C013C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91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A75-B2DF-4725-A3AD-3FE97886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91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6F0-C22C-491A-8274-92DFA084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912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B56-A761-4209-B3E3-4D8F37F7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Februar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. F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F0DF-2EFE-43BB-BEB4-C87073A5A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322320" y="569448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7c80"/>
                </a:solidFill>
                <a:latin typeface="Symbol"/>
                <a:ea typeface="Symbol"/>
              </a:rPr>
              <a:t></a:t>
            </a:r>
            <a:r>
              <a:rPr b="1" lang="es-ES" sz="3200" spc="-1" strike="noStrike" baseline="30000">
                <a:solidFill>
                  <a:srgbClr val="ff7c8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0720" y="394164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7c80"/>
                </a:solidFill>
                <a:latin typeface="Symbol"/>
                <a:ea typeface="Symbol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46320" y="4703760"/>
            <a:ext cx="5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7c80"/>
                </a:solidFill>
                <a:latin typeface="Comic Sans MS"/>
              </a:rPr>
              <a:t>k</a:t>
            </a:r>
            <a:r>
              <a:rPr b="1" lang="es-ES" sz="3200" spc="-1" strike="noStrike" baseline="30000">
                <a:solidFill>
                  <a:srgbClr val="ff7c8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21760" y="1046160"/>
            <a:ext cx="5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7c80"/>
                </a:solidFill>
                <a:latin typeface="Symbol"/>
                <a:ea typeface="Symbol"/>
              </a:rPr>
              <a:t></a:t>
            </a:r>
            <a:r>
              <a:rPr b="1" lang="es-ES" sz="3200" spc="-1" strike="noStrike" baseline="30000">
                <a:solidFill>
                  <a:srgbClr val="ff7c8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6800" y="432288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7c80"/>
                </a:solidFill>
                <a:latin typeface="Symbol"/>
                <a:ea typeface="Symbol"/>
              </a:rPr>
              <a:t></a:t>
            </a:r>
            <a:r>
              <a:rPr b="1" lang="es-ES" sz="3200" spc="-1" strike="noStrike" baseline="30000">
                <a:solidFill>
                  <a:srgbClr val="ff7c8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51120" y="241776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7c80"/>
                </a:solidFill>
                <a:latin typeface="Symbol"/>
                <a:ea typeface="Symbol"/>
              </a:rPr>
              <a:t></a:t>
            </a:r>
            <a:r>
              <a:rPr b="1" lang="es-ES" sz="3200" spc="-1" strike="noStrike" baseline="30000">
                <a:solidFill>
                  <a:srgbClr val="ff7c8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0" y="10936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7c8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306360"/>
            <a:ext cx="8064360" cy="20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Comic Sans MS"/>
              </a:rPr>
              <a:t>The Spanish National Program</a:t>
            </a:r>
            <a:br>
              <a:rPr sz="3200"/>
            </a:br>
            <a:r>
              <a:rPr b="1" lang="en-GB" sz="3200" spc="-1" strike="noStrike">
                <a:solidFill>
                  <a:srgbClr val="003300"/>
                </a:solidFill>
                <a:latin typeface="Comic Sans MS"/>
              </a:rPr>
              <a:t>for Particle Physics: 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3300"/>
                </a:solidFill>
                <a:latin typeface="Comic Sans MS"/>
              </a:rPr>
              <a:t>Recent Considerations</a:t>
            </a:r>
            <a:r>
              <a:rPr b="0" lang="en-GB" sz="32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8160" y="3068640"/>
            <a:ext cx="68450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Comic Sans MS"/>
              </a:rPr>
              <a:t>Juan A. Fuster Verdú  IFIC-València/MICIN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Comic Sans MS"/>
              </a:rPr>
              <a:t>Winter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Comic Sans MS"/>
              </a:rPr>
              <a:t>Benasque, 13 February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956720" y="5013360"/>
            <a:ext cx="8190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95280" y="5373720"/>
            <a:ext cx="263376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7777080" cy="55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Only Conferences with parallel sessions, call for papers, etc.. are funded by Ministery Calls (no schools, no workshopd, etc.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However some of these events are crucial for our community and have a long tradition and high cientific level, ie,  Winter Meeting, TAE, some school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The solution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872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Kozuka Gothic Pro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Coordination of the Community: workshops, meetings, etc.. (Spanish Winter Meeting, TAE, etc..)  organized at Benasque Center Professor Pere Pascual, Coordiantes by Pr. Manuel Asorey (Univ. Zaragoz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872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Kozuka Gothic Pro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Will need a panel for organizational matters and decide the allocation of resources to the events on year ba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872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Kozuka Gothic Pro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Winter Meeting/TAE being managed by Benasque does not mean that has to necessarily always happen at Benasque (preserving the original objective of moving along Spain)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Winter Meeting, TAE, Workshops, Schools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1520" y="1052640"/>
            <a:ext cx="886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9E2-7553-46D9-9F97-6E4D6D1B71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55280" y="1268280"/>
            <a:ext cx="7777080" cy="45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The recently created directorate of International Cooperation takes care of the International Agreement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All our collaboration will need to be known to them and a process to be accepted is being discus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The payment of quotas (Common funds, operation &amp; maintenance, etc..) wll be centralized in this Directora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Statistics of the National Program canbe found at the web page of the prog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http://www.fpa.csic.es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MoUs and Quot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1520" y="1052640"/>
            <a:ext cx="886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C2B-74A1-42A9-9AA7-BFEE5BDD07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123640" y="1412640"/>
            <a:ext cx="5040360" cy="48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Particle Phys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Experiment (all) &amp; Theory (al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Nuclear Phys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Experiment (all) &amp; Theory (som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Astroparticle Physics </a:t>
            </a:r>
            <a:r>
              <a:rPr b="1" lang="es-ES_tradnl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&amp; Cosmology</a:t>
            </a:r>
            <a:r>
              <a:rPr b="1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Experiment (most) &amp; Theory (som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Information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GRID, e-Science (al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R&amp;D in</a:t>
            </a:r>
            <a:r>
              <a:rPr b="0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Accelerators and Dete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(mos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Physics 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Medical Physics (som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HEP Research in Spain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Areas covered by the program FP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1520" y="1197000"/>
            <a:ext cx="886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E17-785F-48BF-AF04-0AFC59B9AD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FPA Fun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118120"/>
            <a:ext cx="835344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3300"/>
              </a:buClr>
              <a:buFont typeface="Kozuka Gothic Pro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Kozuka Gothic Pro B"/>
                <a:ea typeface="Kozuka Gothic Pro B"/>
              </a:rPr>
              <a:t>  </a:t>
            </a:r>
            <a:r>
              <a:rPr b="1" lang="en-US" sz="1800" spc="-1" strike="noStrike">
                <a:solidFill>
                  <a:srgbClr val="003300"/>
                </a:solidFill>
                <a:latin typeface="Kozuka Gothic Pro B"/>
                <a:ea typeface="Kozuka Gothic Pro B"/>
              </a:rPr>
              <a:t>Only Direct/Operational cost funding is considered (equipment,  travelling, person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Kozuka Gothic Pro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Kozuka Gothic Pro B"/>
                <a:ea typeface="Kozuka Gothic Pro B"/>
              </a:rPr>
              <a:t>  </a:t>
            </a:r>
            <a:r>
              <a:rPr b="1" lang="en-US" sz="1800" spc="-1" strike="noStrike">
                <a:solidFill>
                  <a:srgbClr val="003300"/>
                </a:solidFill>
                <a:latin typeface="Kozuka Gothic Pro B"/>
                <a:ea typeface="Kozuka Gothic Pro B"/>
              </a:rPr>
              <a:t>Complementary Actions: MoUs, conferences, strategic a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Kozuka Gothic Pro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Kozuka Gothic Pro B"/>
                <a:ea typeface="Kozuka Gothic Pro B"/>
              </a:rPr>
              <a:t>  </a:t>
            </a:r>
            <a:r>
              <a:rPr b="1" lang="en-GB" sz="1800" spc="-1" strike="noStrike">
                <a:solidFill>
                  <a:srgbClr val="003300"/>
                </a:solidFill>
                <a:latin typeface="Kozuka Gothic Pro B"/>
                <a:ea typeface="Kozuka Gothic Pro B"/>
              </a:rPr>
              <a:t>5th contributor to the CERN budget (8,5% ~60M€, 200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4000" y="836640"/>
            <a:ext cx="8496000" cy="4750920"/>
            <a:chOff x="324000" y="836640"/>
            <a:chExt cx="8496000" cy="4750920"/>
          </a:xfrm>
        </p:grpSpPr>
        <p:sp>
          <p:nvSpPr>
            <p:cNvPr id="65" name=""/>
            <p:cNvSpPr/>
            <p:nvPr/>
          </p:nvSpPr>
          <p:spPr>
            <a:xfrm>
              <a:off x="611280" y="1925640"/>
              <a:ext cx="8064360" cy="1305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66"/>
                  </a:solidFill>
                  <a:latin typeface="Kozuka Gothic Pro B"/>
                  <a:ea typeface="Kozuka Gothic Pro B"/>
                </a:rPr>
                <a:t>About 59% funding approved w.r.t. requested, 2006-2008 (contributions to experiments M&amp;O are 21% more exp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66"/>
                  </a:solidFill>
                  <a:latin typeface="Kozuka Gothic Pro B"/>
                  <a:ea typeface="Kozuka Gothic Pro B"/>
                </a:rPr>
                <a:t>- The overhead !!! -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1280" y="836640"/>
              <a:ext cx="8064360" cy="47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ffffff"/>
                </a:buClr>
                <a:buFont typeface="Kozuka Gothic Pro B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ffffff"/>
                </a:buClr>
                <a:buFont typeface="Kozuka Gothic Pro B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ffffff"/>
                </a:buClr>
                <a:buFont typeface="Kozuka Gothic Pro B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ffffff"/>
                </a:buClr>
                <a:buFont typeface="Kozuka Gothic Pro B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ffffff"/>
                </a:buClr>
                <a:buFont typeface="Kozuka Gothic Pro B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ffffff"/>
                </a:buClr>
                <a:buFont typeface="Kozuka Gothic Pro B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ffffff"/>
                </a:buClr>
                <a:buFont typeface="Kozuka Gothic Pro B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ffffff"/>
                </a:buClr>
                <a:buFont typeface="Kozuka Gothic Pro B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ffffff"/>
                </a:buClr>
                <a:buFont typeface="Kozuka Gothic Pro B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ffffff"/>
                </a:buClr>
                <a:buFont typeface="Kozuka Gothic Pro B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ffffff"/>
                </a:buClr>
                <a:buFont typeface="Kozuka Gothic Pro B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>
            <a:off x="324000" y="904680"/>
            <a:ext cx="8281800" cy="4253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904680"/>
                      <a:ext cx="8281800" cy="42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" name=""/>
            <p:cNvSpPr/>
            <p:nvPr/>
          </p:nvSpPr>
          <p:spPr>
            <a:xfrm>
              <a:off x="4959360" y="2773080"/>
              <a:ext cx="3860640" cy="131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3300"/>
                  </a:solidFill>
                  <a:latin typeface="Kozuka Gothic Pro B"/>
                  <a:ea typeface="Kozuka Gothic Pro B"/>
                </a:rPr>
                <a:t>The three years period structure has been organized and its impact  minimized (no overhead consider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384000">
              <a:off x="1390680" y="2286000"/>
              <a:ext cx="3263760" cy="1874880"/>
            </a:xfrm>
            <a:custGeom>
              <a:avLst/>
              <a:gdLst/>
              <a:ahLst/>
              <a:rect l="l" t="t" r="r" b="b"/>
              <a:pathLst>
                <a:path w="1859" h="704">
                  <a:moveTo>
                    <a:pt x="0" y="689"/>
                  </a:moveTo>
                  <a:cubicBezTo>
                    <a:pt x="83" y="696"/>
                    <a:pt x="166" y="704"/>
                    <a:pt x="272" y="689"/>
                  </a:cubicBezTo>
                  <a:cubicBezTo>
                    <a:pt x="378" y="674"/>
                    <a:pt x="514" y="651"/>
                    <a:pt x="635" y="598"/>
                  </a:cubicBezTo>
                  <a:cubicBezTo>
                    <a:pt x="756" y="545"/>
                    <a:pt x="906" y="439"/>
                    <a:pt x="997" y="371"/>
                  </a:cubicBezTo>
                  <a:cubicBezTo>
                    <a:pt x="1088" y="303"/>
                    <a:pt x="1103" y="243"/>
                    <a:pt x="1179" y="190"/>
                  </a:cubicBezTo>
                  <a:cubicBezTo>
                    <a:pt x="1255" y="137"/>
                    <a:pt x="1353" y="84"/>
                    <a:pt x="1451" y="54"/>
                  </a:cubicBezTo>
                  <a:cubicBezTo>
                    <a:pt x="1549" y="24"/>
                    <a:pt x="1701" y="16"/>
                    <a:pt x="1769" y="8"/>
                  </a:cubicBezTo>
                  <a:cubicBezTo>
                    <a:pt x="1837" y="0"/>
                    <a:pt x="1848" y="4"/>
                    <a:pt x="1859" y="8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5D8-FEE2-4E0C-8179-1F68CDA2C4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410920" y="1154160"/>
            <a:ext cx="5040360" cy="52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Particle Phys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Experiment &amp; The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Nuclear Phys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Experim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Some The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Astroparticle Physics </a:t>
            </a:r>
            <a:r>
              <a:rPr b="1" lang="es-ES_tradnl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&amp; Cosmology</a:t>
            </a:r>
            <a:r>
              <a:rPr b="1" lang="en-US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Theory &amp; Experi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Information 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GR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R&amp;D in</a:t>
            </a:r>
            <a:r>
              <a:rPr b="0" lang="en-US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Accelerators and Det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Physics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Medical Phys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193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HEP Research in Sp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600" y="-68400"/>
          <a:ext cx="9167760" cy="695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-68400"/>
                    <a:ext cx="9167760" cy="69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0680" y="6165720"/>
            <a:ext cx="73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HEP Funding Sharing: FPA2006-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68960" y="187200"/>
            <a:ext cx="41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Accelerators, R&amp;D, I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Aplications: Medical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87160" y="485604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Experim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Astroparticle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3960" y="573120"/>
            <a:ext cx="242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Experim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Nuclear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02400" y="105084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Experim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Particle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02400" y="537228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8600" y="438300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132000" y="4076640"/>
            <a:ext cx="1873080" cy="792000"/>
            <a:chOff x="3132000" y="4076640"/>
            <a:chExt cx="1873080" cy="792000"/>
          </a:xfrm>
        </p:grpSpPr>
        <p:sp>
          <p:nvSpPr>
            <p:cNvPr id="83" name=""/>
            <p:cNvSpPr/>
            <p:nvPr/>
          </p:nvSpPr>
          <p:spPr>
            <a:xfrm>
              <a:off x="3132000" y="4076640"/>
              <a:ext cx="1873080" cy="792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27200" y="4290840"/>
              <a:ext cx="12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66"/>
                  </a:solidFill>
                  <a:latin typeface="Kozuka Gothic Pro B"/>
                  <a:ea typeface="Kozuka Gothic Pro B"/>
                </a:rPr>
                <a:t>50% CE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965240" y="2060640"/>
            <a:ext cx="1873440" cy="792000"/>
            <a:chOff x="1965240" y="2060640"/>
            <a:chExt cx="1873440" cy="792000"/>
          </a:xfrm>
        </p:grpSpPr>
        <p:sp>
          <p:nvSpPr>
            <p:cNvPr id="86" name=""/>
            <p:cNvSpPr/>
            <p:nvPr/>
          </p:nvSpPr>
          <p:spPr>
            <a:xfrm>
              <a:off x="1965240" y="2060640"/>
              <a:ext cx="1873440" cy="792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41920" y="2274840"/>
              <a:ext cx="161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66"/>
                  </a:solidFill>
                  <a:latin typeface="Kozuka Gothic Pro B"/>
                  <a:ea typeface="Kozuka Gothic Pro B"/>
                </a:rPr>
                <a:t>20-30% CE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274920" y="1413000"/>
            <a:ext cx="1873080" cy="792000"/>
            <a:chOff x="3274920" y="1413000"/>
            <a:chExt cx="1873080" cy="792000"/>
          </a:xfrm>
        </p:grpSpPr>
        <p:sp>
          <p:nvSpPr>
            <p:cNvPr id="89" name=""/>
            <p:cNvSpPr/>
            <p:nvPr/>
          </p:nvSpPr>
          <p:spPr>
            <a:xfrm>
              <a:off x="3274920" y="1413000"/>
              <a:ext cx="1873080" cy="792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70120" y="1627200"/>
              <a:ext cx="12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66"/>
                  </a:solidFill>
                  <a:latin typeface="Kozuka Gothic Pro B"/>
                  <a:ea typeface="Kozuka Gothic Pro B"/>
                </a:rPr>
                <a:t>50% CE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364000" y="3500280"/>
            <a:ext cx="1873080" cy="792000"/>
            <a:chOff x="5364000" y="3500280"/>
            <a:chExt cx="1873080" cy="792000"/>
          </a:xfrm>
        </p:grpSpPr>
        <p:sp>
          <p:nvSpPr>
            <p:cNvPr id="92" name=""/>
            <p:cNvSpPr/>
            <p:nvPr/>
          </p:nvSpPr>
          <p:spPr>
            <a:xfrm>
              <a:off x="5364000" y="3500280"/>
              <a:ext cx="1873080" cy="792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58480" y="37144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66"/>
                  </a:solidFill>
                  <a:latin typeface="Kozuka Gothic Pro B"/>
                  <a:ea typeface="Kozuka Gothic Pro B"/>
                </a:rPr>
                <a:t>5-10% CE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146560" y="2133720"/>
            <a:ext cx="1873080" cy="792000"/>
            <a:chOff x="5146560" y="2133720"/>
            <a:chExt cx="1873080" cy="792000"/>
          </a:xfrm>
        </p:grpSpPr>
        <p:sp>
          <p:nvSpPr>
            <p:cNvPr id="95" name=""/>
            <p:cNvSpPr/>
            <p:nvPr/>
          </p:nvSpPr>
          <p:spPr>
            <a:xfrm>
              <a:off x="5146560" y="2133720"/>
              <a:ext cx="1873080" cy="792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41760" y="2347920"/>
              <a:ext cx="12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66"/>
                  </a:solidFill>
                  <a:latin typeface="Kozuka Gothic Pro B"/>
                  <a:ea typeface="Kozuka Gothic Pro B"/>
                </a:rPr>
                <a:t>90% CE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619280" y="3213000"/>
            <a:ext cx="1873080" cy="792000"/>
            <a:chOff x="1619280" y="3213000"/>
            <a:chExt cx="1873080" cy="792000"/>
          </a:xfrm>
        </p:grpSpPr>
        <p:sp>
          <p:nvSpPr>
            <p:cNvPr id="98" name=""/>
            <p:cNvSpPr/>
            <p:nvPr/>
          </p:nvSpPr>
          <p:spPr>
            <a:xfrm>
              <a:off x="1619280" y="3213000"/>
              <a:ext cx="1873080" cy="792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12680" y="342720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66"/>
                  </a:solidFill>
                  <a:latin typeface="Kozuka Gothic Pro B"/>
                  <a:ea typeface="Kozuka Gothic Pro B"/>
                </a:rPr>
                <a:t>100% CE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79280" y="5084640"/>
            <a:ext cx="2808360" cy="935280"/>
            <a:chOff x="179280" y="5084640"/>
            <a:chExt cx="2808360" cy="935280"/>
          </a:xfrm>
        </p:grpSpPr>
        <p:sp>
          <p:nvSpPr>
            <p:cNvPr id="101" name=""/>
            <p:cNvSpPr/>
            <p:nvPr/>
          </p:nvSpPr>
          <p:spPr>
            <a:xfrm>
              <a:off x="179280" y="5084640"/>
              <a:ext cx="2808360" cy="9352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9200" y="5340240"/>
              <a:ext cx="21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Kozuka Gothic Pro B"/>
                  <a:ea typeface="Kozuka Gothic Pro B"/>
                </a:rPr>
                <a:t>CERN = 65% F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E8F-86FE-45D6-B26E-E94A61DA2D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90600" y="189000"/>
            <a:ext cx="665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Distribution of HEP personnel in Spain</a:t>
            </a:r>
            <a:br>
              <a:rPr sz="2000"/>
            </a:br>
            <a:r>
              <a:rPr b="0" lang="es-AR" sz="20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(members of projects supported by PNFPA 2006-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2440" y="1197000"/>
          <a:ext cx="6218280" cy="4684680"/>
        </p:xfrm>
        <a:graphic>
          <a:graphicData uri="http://schemas.openxmlformats.org/drawingml/2006/table">
            <a:tbl>
              <a:tblPr/>
              <a:tblGrid>
                <a:gridCol w="1942920"/>
                <a:gridCol w="1165320"/>
                <a:gridCol w="1555920"/>
                <a:gridCol w="155412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The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Experi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Permanent Sta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2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Doc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4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2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Ramón y Caj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Juan de la Cier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PhD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Engineers, technicians, etc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Collabor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8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5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01520" y="1052640"/>
            <a:ext cx="886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3F4-97A7-4A9A-BBAF-0F8BA735A4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0600" y="189000"/>
            <a:ext cx="665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Distribution HEP Experimental personnel in Spain</a:t>
            </a:r>
            <a:br>
              <a:rPr sz="2000"/>
            </a:br>
            <a:r>
              <a:rPr b="0" lang="es-AR" sz="20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(members of projects supported by PNFPA 2006-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166760"/>
          <a:ext cx="8640720" cy="5064120"/>
        </p:xfrm>
        <a:graphic>
          <a:graphicData uri="http://schemas.openxmlformats.org/drawingml/2006/table">
            <a:tbl>
              <a:tblPr/>
              <a:tblGrid>
                <a:gridCol w="1873080"/>
                <a:gridCol w="1224000"/>
                <a:gridCol w="1440000"/>
                <a:gridCol w="1000080"/>
                <a:gridCol w="1401840"/>
                <a:gridCol w="170172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Accelerator Particle Phys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Astroparticle Phys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Nuclear Phys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Computation G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R&amp;D Accelerators Medical Phy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Permanent Sta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Doc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Ramón y Caj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Juan de la Cier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PhD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Engineers, technicians, etc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Collabor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3300"/>
                          </a:solidFill>
                          <a:latin typeface="Kozuka Gothic Pro B"/>
                          <a:ea typeface="Kozuka Gothic Pro B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01520" y="1052640"/>
            <a:ext cx="886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6AC-6EC5-4C2A-8DF2-88C9E24B7A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410920" y="1154160"/>
            <a:ext cx="5040360" cy="52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Particle Phys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Experiment &amp; The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Nuclear Phys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Experim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Some The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Astroparticle Physics </a:t>
            </a:r>
            <a:r>
              <a:rPr b="1" lang="es-ES_tradnl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&amp; Cosmology</a:t>
            </a:r>
            <a:r>
              <a:rPr b="1" lang="en-US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Theory &amp; Experi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Information 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GR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R&amp;D in</a:t>
            </a:r>
            <a:r>
              <a:rPr b="0" lang="en-US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Accelerators and Det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Physics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Medical Phys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193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HEP Research in Sp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-95400"/>
          <a:ext cx="9167760" cy="695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95400"/>
                    <a:ext cx="9167760" cy="69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146320" y="6165720"/>
            <a:ext cx="49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FPA Activity (2006-200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170028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51577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Experim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Particle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200" y="508464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Experim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Astro-Particle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89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Experim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Nuclear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60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260280"/>
            <a:ext cx="7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5440" y="187200"/>
            <a:ext cx="41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Accelerators, R&amp;D, I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Aplications: Medical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052640"/>
            <a:ext cx="647640" cy="129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640" y="692280"/>
            <a:ext cx="648000" cy="115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067280" y="1052640"/>
            <a:ext cx="1728720" cy="57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435280" y="5300640"/>
            <a:ext cx="649080" cy="21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84360" y="4221000"/>
            <a:ext cx="57456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236000" y="2205000"/>
            <a:ext cx="504720" cy="7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A495-BB98-465C-93B0-7B15F01A2F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23920" y="-275400"/>
            <a:ext cx="509616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Scientific Publicatio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(CERN SCOA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Kozuka Gothic Pro B"/>
                <a:ea typeface="Kozuka Gothic Pro B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 Study Grou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5329080" cy="3892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-12600" y="5354640"/>
            <a:ext cx="92422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N(authors)&lt;10 </a:t>
            </a:r>
            <a:r>
              <a:rPr b="0" lang="es-E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(mainly theory): Spain 3,2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N(authors)&gt;10 </a:t>
            </a:r>
            <a:r>
              <a:rPr b="0" lang="es-E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(mainly experiments): Spain 0,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N(authors)&gt;10 with at least One Spanish author</a:t>
            </a:r>
            <a:r>
              <a:rPr b="0" lang="es-E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 (mainly experiments): Spain 27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80000" y="1628640"/>
            <a:ext cx="3313080" cy="3900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Kozuka Gothic Pro B"/>
                <a:ea typeface="Kozuka Gothic Pro B"/>
              </a:rPr>
              <a:t>Spain 9th in ra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Kozuka Gothic Pro B"/>
                <a:ea typeface="Kozuka Gothic Pro B"/>
              </a:rPr>
              <a:t>Spain needs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Kozuka Gothic Pro B"/>
                <a:ea typeface="Kozuka Gothic Pro B"/>
              </a:rPr>
              <a:t>Increase the Experimental comunity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Kozuka Gothic Pro B"/>
                <a:ea typeface="Kozuka Gothic Pro B"/>
              </a:rPr>
              <a:t>and/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Kozuka Gothic Pro B"/>
                <a:ea typeface="Kozuka Gothic Pro B"/>
              </a:rPr>
              <a:t>Concentrate Experimental activity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Kozuka Gothic Pro B"/>
                <a:ea typeface="Kozuka Gothic Pro B"/>
              </a:rPr>
              <a:t>(period with no HEP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Kozuka Gothic Pro B"/>
                <a:ea typeface="Kozuka Gothic Pro B"/>
              </a:rPr>
              <a:t>Experiments at CER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8DF-7D9C-4F1B-A3CF-CAC148B774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55280" y="1268280"/>
            <a:ext cx="7777080" cy="57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European ERANETs (Funding Agencies Network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872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Kozuka Gothic Pro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ASPERA (Astroparticle Physics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82872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Kozuka Gothic Pro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NUPNET (Nuclear Physics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National NETs (promote discussion, coordination, produce reports..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872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Kozuka Gothic Pro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LHC, Experiment &amp; Theor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82872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Kozuka Gothic Pro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R&amp;D for future colliders (Detector+Accelerators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82872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Kozuka Gothic Pro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Nuclear Physic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82872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Kozuka Gothic Pro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RENATA, Astroparticle Physic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82872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Kozuka Gothic Pro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RETENU, Neutrino Physic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82872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Kozuka Gothic Pro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Coordination of the Community: workshops, meetings, etc.. (Spanish Winter Meeting, TAE, etc..)  organized at Benasque Center Professor Pere Pascua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Spain has recently joined SCOA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Kozuka Gothic Pro B"/>
                <a:ea typeface="Kozuka Gothic Pro B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 CERN initiative for an Open Access publication system for H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Organizational and Coordination Issues FP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1520" y="1052640"/>
            <a:ext cx="886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B70-05B9-43F0-8535-BAC60C782B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14:44:48Z</dcterms:created>
  <dc:creator>J. Fuster</dc:creator>
  <dc:description/>
  <dc:language>en-US</dc:language>
  <cp:lastModifiedBy> Juan Fuster</cp:lastModifiedBy>
  <cp:lastPrinted>2003-04-04T08:03:56Z</cp:lastPrinted>
  <dcterms:modified xsi:type="dcterms:W3CDTF">2009-02-13T09:19:10Z</dcterms:modified>
  <cp:revision>1988</cp:revision>
  <dc:subject/>
  <dc:title>El CERN una manera de intuir el Big-Bang</dc:title>
</cp:coreProperties>
</file>